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28DA-F703-4960-8BF2-BBECB8369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F31E-6057-4CBD-9C8B-5BD5343CD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848-A9E3-4F5B-A149-2A0FD888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64D-8C51-46DD-A0A9-5312D90C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D3F-DF24-4CA0-8815-8A8D6CD4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260-5DFD-4E91-9E6E-48E5EC4C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45C9-D5CF-43B6-83F9-526A0030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7C94-1E0B-4EEC-B291-CC8D85DF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9800-DBDB-4FAD-A9AE-39404972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2636-1192-4D9B-A558-8764C522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96E3-3659-4165-8D42-45794C8B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F765-681C-4FA7-92A6-FAD399CA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09C0-28E5-4227-9302-1E6A0180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D9A7-33AB-4607-B9C9-2D0FE3FC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F013-731C-4B97-AD2E-1FBBDFBA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35FD-BB40-4CBA-941A-72A4B16F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1777-52C5-46F6-9E0F-143BD0B8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3991-C5EA-4970-8274-85B17983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ACE5-0175-4D24-836A-8294B062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1D02A-B1B9-4579-9C4D-FF09A2D0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E7A97-EE62-4BCF-B0DB-E0A60934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9A049-1B8A-41E2-9024-6FFB8590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016EA-1062-4D8C-9601-E4CC9084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4F6F7-A863-4EB7-B899-FC7021F7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129-C285-4B6E-882C-CDB7BD2C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61215-C85B-4D0B-B915-4B507E04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51166-44FF-475D-9AC6-21D51E04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DC1EE-E586-40C0-BEC1-2F528AB1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95135-AF4A-4AEF-843E-6561665C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B5C60-041E-465B-BA8D-264D0680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4CE2D-F22F-486B-B5E4-8D50241B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DB9F8-CB12-481A-B84C-451F9D12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2EEAE-AF38-42F5-B9E2-3E17767A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1719E-0770-46A1-9339-97F09A99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AE563-960B-46C2-94D7-E8565034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43A-0878-43EA-B4AE-E44EE0D7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16AD6-798B-4D13-910A-92FFC277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5FAFE-570C-4142-B3B9-292A001F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C452B-06A7-438B-933E-CA1C40C7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1C705-CB94-4685-8890-7078E47F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9AAC1-6CE9-4DF7-A429-3C19E381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49B37-CEB6-47B7-B6D7-F5617ED7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29255-B0DD-4817-BE92-76A14D9F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0282D-0FEC-4B3C-9A61-727007A6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5BA82-B439-4FEB-91B2-D93911B9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B1D-C7FA-434C-8F52-CE7776C7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02B-BE80-4D22-A438-483C6F3D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927-22C1-4404-B79E-23C25E9D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01A-AB91-4D7B-B92B-1802B5F1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242-4230-4038-B624-F0B19250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964B-3F96-45E6-9F0A-C3D86A48BC44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7042-C957-4AEC-86F6-54193492F1D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B0BE-2766-4B12-8B8A-6DB88423789C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6D96-E5E1-4ED5-B2CD-B4F5A2EEE207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B130-2365-4E54-8C92-1F3265092739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5177-DD84-47E2-AE35-BC7105F17E5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9DFD-5236-4703-A7E1-C2F4842EA865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B79C-39CF-44A4-B175-3556ADE7D64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South Dakota AFNR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Academic Integration Activities: Example #4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75675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dentify three slang words or phrases that would describe a plant species. Identify the group that would use that slang word or phras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dentify two colloquialisms that are from two different geographical regions that would help describe a plant species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rite one description of a plant using one of the slang words in your list and write another description of a plant using one of the colloquialisms in your lis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09480" y="190008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Verdana"/>
              </a:rPr>
              <a:t>Horticulture students will be able to understand how slang and colloquialisms impact the meaning of plant descriptions from forms of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g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orticulture, H. 1.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rite a description for a plant speci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cademic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11.R.2.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tudents can analyze how diction affects the interpretation of tex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dentify dialec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A particular variety of language spoken in one place by a distinct group of peopl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Determine how slang, colloquialisms and dialect impact meaning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ackground Informa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920" y="2323800"/>
            <a:ext cx="73389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Informal language, such as slang and colloquialisms, can affect the meaning of text because using slang and colloquialisms can indicate who wrote the text and where the text was written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Slang is generally defined as language peculiar to a particular group ( e.g. teenagers, surfers, soldiers, etc.)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A colloquialism is a word or phrase that is typically used in a certain area or region (i.e. “pop” in the Midwest vs. “soda” on the coasts vs. “coke” in the South)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ad this description of a plant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Pinktopia, an Easy Elegance rose, packs masses of dreamy medium pink blooms against dark green leaves. Pinktopia’s new growth is a stunning red. It makes a great low-maintenance accent plant or hedge. Recurrent bloom cycle. Grows 4 feet tall and 3 feet wide. Zones 4–9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Use these questions to interpret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here was the informal language used?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Dream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s this slang or colloquialism?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lang, because it is a language use by a group instead of a regi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ow does this wording affect our interpretation of the plant description?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any answer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920" y="2323800"/>
            <a:ext cx="70344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ad this description of a plant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For sheer carnal gorgeousness, no other temperate-climate flower even comes close. Of course, if you’re used to looking at things with the cold, steely eye of reason. Oriental poppies reveal some flaws: they bloom early and all too briefly: the taller kinds are apt to flop: and after blooming, their foliage goes into a prolonged and hideous decline before disappearing altogether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Use these questions to interpret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here was the informal language used?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teely eye of reas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s this slang or colloquialism?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olloquialism, because it is a language use by a region instead or a particular group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ow does this wording affect our interpretation of the plant description?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any answer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 Matzner</cp:lastModifiedBy>
  <dcterms:modified xsi:type="dcterms:W3CDTF">2011-08-02T19:54:00Z</dcterms:modified>
  <cp:revision>92</cp:revision>
  <dc:subject/>
  <dc:title>South Dakota Ag Education</dc:title>
</cp:coreProperties>
</file>